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FD9-FEC7-4654-843D-434C100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F21-A629-4D9A-9B3A-1167966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003-0241-4EAF-84EB-9A994B2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209-1B5F-403E-AC4C-A49AF939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E19-A45A-44E1-A3EA-03BBBAF6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A199-2038-4511-B89F-4F595F4A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55F5-F5D8-4C19-B7A6-BA7236BF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8BB-4DCD-466A-985A-CF57546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396B-B2F2-4204-8B69-48E106D5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178F-6355-4917-96C2-E2655579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D2C0-C29C-46F9-8A31-F70DF16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65B-B2E7-4B61-B22C-458B156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CE27-517E-4DFC-BA6B-4723651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648-6F9A-4F96-881F-22994D2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61F-09EE-4889-81A3-9223123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63D-A50D-471F-BA00-ABA8B9F5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168-26CD-4919-B4F4-99423600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5C2-226F-4807-B283-0C5B0C2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CDE-7406-47D6-8F4D-7E991C4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0D7-C7F3-4416-BF45-8718200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CC5-B611-4DE6-8662-E998FE5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E8A-31AF-41F0-871E-226A989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1D2-B52E-4A52-9AFA-F8E8533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285-71E3-40A6-98BB-2B103A8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506-F0A2-465D-A4DC-056DBD46EF6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2CFA-B8CC-4C50-AC87-736E8CD8D3D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ffffcc"/>
                </a:solidFill>
                <a:latin typeface="Tahoma"/>
              </a:rPr>
              <a:t>Victor Hugo</a:t>
            </a:r>
            <a:br>
              <a:rPr sz="48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37680" y="1846080"/>
            <a:ext cx="546588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1802-188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hugo"/>
          <p:cNvPicPr/>
          <p:nvPr/>
        </p:nvPicPr>
        <p:blipFill>
          <a:blip r:embed="rId1"/>
          <a:stretch/>
        </p:blipFill>
        <p:spPr>
          <a:xfrm>
            <a:off x="5154480" y="1628640"/>
            <a:ext cx="3430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IT"/>
          <p:cNvPicPr/>
          <p:nvPr/>
        </p:nvPicPr>
        <p:blipFill>
          <a:blip r:embed="rId1"/>
          <a:stretch/>
        </p:blipFill>
        <p:spPr>
          <a:xfrm>
            <a:off x="395280" y="765000"/>
            <a:ext cx="84772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Legenda věků (1859 – 188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ické dí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ojdílný cyklus bás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ize o vývoji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ělníci moře (1866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ěj prostředí Normanských ostrov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s lidí proti silám mo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Muž, který se směje (186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éž „Člověk, který se směj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cký román z prostředí Angl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evadesát tři (187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pisuje nejdramatičtější rok Velké francouzské revoluce – rok 17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496px-Jan_Vil%C3%ADmek_-_Victor_Hugo_HL"/>
          <p:cNvPicPr/>
          <p:nvPr/>
        </p:nvPicPr>
        <p:blipFill>
          <a:blip r:embed="rId1"/>
          <a:stretch/>
        </p:blipFill>
        <p:spPr>
          <a:xfrm>
            <a:off x="2141640" y="228600"/>
            <a:ext cx="48607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Bonnat_Hugo001z"/>
          <p:cNvPicPr/>
          <p:nvPr/>
        </p:nvPicPr>
        <p:blipFill>
          <a:blip r:embed="rId1"/>
          <a:stretch/>
        </p:blipFill>
        <p:spPr>
          <a:xfrm>
            <a:off x="2233440" y="228600"/>
            <a:ext cx="4675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Victor_hugo_Chifflart"/>
          <p:cNvPicPr/>
          <p:nvPr/>
        </p:nvPicPr>
        <p:blipFill>
          <a:blip r:embed="rId1"/>
          <a:stretch/>
        </p:blipFill>
        <p:spPr>
          <a:xfrm>
            <a:off x="2106720" y="228600"/>
            <a:ext cx="49305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ŽIV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ým jménem Victor Marie Hug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cou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couzský básník, prozaik, dramatik,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(vrcholný představitel romantism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YL: protiklady ---) tragédie X komedie; krása X ošklivost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ŽIV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822 – plně se věnuje literatu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 1830 nejplodnější obdob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 1843 píše rom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ngažoval se v politice - 1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nán do exilu 1851 – Belgie, ostro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rací se 1870 do Paříže  - člen Národního shromá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ec života – výchova vnoučat – všechny jeho děti předčasně umíra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vorba obecně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1680" y="1197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ezie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intimní  a přírodní lyrika, polit. satira, oslavné básně, otázka smrti) – k vrcholům patř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egenda věků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odraz lidských dějin a touha člověka po pokro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dram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volnost, hrdina s vnitřním rozporem, nenaplněná láska, svoboda) – nejvýznamnější hr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Cromwell –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mluva je manifestem francouz. romantis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romány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složitá kompozice + děj, mnoho hl. i vedl. posta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ídníci (1862)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aké „Ubožáci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dně romantický ro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spěšný, dodnes často divadelně či filmově zpracováv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ciální kritika francouzsk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l. hrdina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Jean Valj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8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cc"/>
                </a:solidFill>
                <a:latin typeface="Tahoma"/>
              </a:rPr>
              <a:t>Chrám matky boží v Paříži (1831)</a:t>
            </a:r>
            <a:br>
              <a:rPr sz="54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ugovo nejznámější díl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racováno dramaticky, filmově (i jako pohádka od Disneyho či inspirace pro telenovelu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éma nenaplněné lásk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ragický kone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asty: ošklivý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Quasimodo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x krásná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Esmerald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fyzická krása x duševní krá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ha poukázat, jak mohou názory společnosti ovlivnit život člově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. hrdina: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Quasimodo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vyvrženec společnosti, osaměl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alší postavy: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Esmerald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rásná a temperamentní cikánská tanečnice,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Klaudius Frol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žárlivý, zlý kněz,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etr Gringoi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umělec, symbolicky manžel Esmeraldy,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ho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důstojník, pro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Esmerald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ztělesnění krásy a ušlechtilos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7" descr="1"/>
          <p:cNvPicPr/>
          <p:nvPr/>
        </p:nvPicPr>
        <p:blipFill>
          <a:blip r:embed="rId1"/>
          <a:stretch/>
        </p:blipFill>
        <p:spPr>
          <a:xfrm>
            <a:off x="826920" y="1052640"/>
            <a:ext cx="3179880" cy="5030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2"/>
          <p:cNvPicPr/>
          <p:nvPr/>
        </p:nvPicPr>
        <p:blipFill>
          <a:blip r:embed="rId2"/>
          <a:stretch/>
        </p:blipFill>
        <p:spPr>
          <a:xfrm>
            <a:off x="4211640" y="1855800"/>
            <a:ext cx="44719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7" descr="3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3264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4"/>
          <p:cNvPicPr/>
          <p:nvPr/>
        </p:nvPicPr>
        <p:blipFill>
          <a:blip r:embed="rId2"/>
          <a:stretch/>
        </p:blipFill>
        <p:spPr>
          <a:xfrm>
            <a:off x="3635280" y="2492280"/>
            <a:ext cx="52023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uziká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vadlo Hyber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Quasimo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FUCK"/>
          <p:cNvPicPr/>
          <p:nvPr/>
        </p:nvPicPr>
        <p:blipFill>
          <a:blip r:embed="rId1"/>
          <a:stretch/>
        </p:blipFill>
        <p:spPr>
          <a:xfrm>
            <a:off x="2700360" y="2492280"/>
            <a:ext cx="6210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25:42Z</dcterms:created>
  <dc:creator>JITKA</dc:creator>
  <dc:description/>
  <dc:language>en-US</dc:language>
  <cp:lastModifiedBy>vyhlidalova</cp:lastModifiedBy>
  <dcterms:modified xsi:type="dcterms:W3CDTF">2011-11-01T08:09:25Z</dcterms:modified>
  <cp:revision>5</cp:revision>
  <dc:subject/>
  <dc:title>Victor Hugo </dc:title>
</cp:coreProperties>
</file>